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F5F-F6D3-43DF-86FB-3B34F1A7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CD8-BFF0-4C81-AF4B-614C2E0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0AF-F8BE-464E-A4EF-7D3A1C46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AF5-B400-4ADC-A809-DEE44D57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12D-712A-4335-A856-9315EF44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075-4A9D-4AB6-B355-900B0047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EEA-B9E2-4916-8C25-4F32037A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7D2-7376-4496-BC6B-30A1A725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A14-34AB-4DD6-8943-555E5CEB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C97-10B5-4E67-86CE-130F8AD1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4EC-36EC-4B8F-99ED-5FF1A52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0B0-5503-491E-B6EE-E70A5D8F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0EBF-5DE5-4D3A-8677-CADD277A2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J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s://encrypted-tbn1.google.com/images?q=tbn:ANd9GcTf4zMa504n_Za_y2KgjJ_an3n_gn621GOp7IijtXj3H6HBEnnscg"/>
          <p:cNvPicPr/>
          <p:nvPr/>
        </p:nvPicPr>
        <p:blipFill>
          <a:blip r:embed="rId1"/>
          <a:stretch/>
        </p:blipFill>
        <p:spPr>
          <a:xfrm>
            <a:off x="533520" y="2514600"/>
            <a:ext cx="1306440" cy="122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2.google.com/images?q=tbn:ANd9GcQ5Xzt_m5y8kAeceRgqwb3IAxKu9WyHDjUanbgabwbHCEiiA6_Upg"/>
          <p:cNvPicPr/>
          <p:nvPr/>
        </p:nvPicPr>
        <p:blipFill>
          <a:blip r:embed="rId2"/>
          <a:stretch/>
        </p:blipFill>
        <p:spPr>
          <a:xfrm>
            <a:off x="2209680" y="2514600"/>
            <a:ext cx="1819440" cy="1200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s://encrypted-tbn2.google.com/images?q=tbn:ANd9GcThuJzY5jRGb9jo-fKHrzW1iicOBhquBcN9u8y4-OifrpxoG2xEGA"/>
          <p:cNvPicPr/>
          <p:nvPr/>
        </p:nvPicPr>
        <p:blipFill>
          <a:blip r:embed="rId3"/>
          <a:stretch/>
        </p:blipFill>
        <p:spPr>
          <a:xfrm>
            <a:off x="1600200" y="990720"/>
            <a:ext cx="106668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s://encrypted-tbn2.google.com/images?q=tbn:ANd9GcTWcsopk7Jwh2BCLtS5yxqEJjlO_HYcXNXsYAu_XoF_b8PGZSo1"/>
          <p:cNvPicPr/>
          <p:nvPr/>
        </p:nvPicPr>
        <p:blipFill>
          <a:blip r:embed="rId4"/>
          <a:stretch/>
        </p:blipFill>
        <p:spPr>
          <a:xfrm>
            <a:off x="6934320" y="2438280"/>
            <a:ext cx="1779480" cy="1227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r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https://encrypted-tbn2.google.com/images?q=tbn:ANd9GcRfkw7A1SFPwRqP0C2xO-HoG1dqWwzhn8vpKNOlNh45GrWz6yVpAA"/>
          <p:cNvPicPr/>
          <p:nvPr/>
        </p:nvPicPr>
        <p:blipFill>
          <a:blip r:embed="rId5"/>
          <a:stretch/>
        </p:blipFill>
        <p:spPr>
          <a:xfrm>
            <a:off x="518148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ttps://encrypted-tbn3.google.com/images?q=tbn:ANd9GcSy7T5fJNot0GI6qvTEBlh4Llav_n3agr0Bd1U24K_ziWg-M21a"/>
          <p:cNvPicPr/>
          <p:nvPr/>
        </p:nvPicPr>
        <p:blipFill>
          <a:blip r:embed="rId6"/>
          <a:stretch/>
        </p:blipFill>
        <p:spPr>
          <a:xfrm>
            <a:off x="304920" y="4724280"/>
            <a:ext cx="15253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ttps://encrypted-tbn3.google.com/images?q=tbn:ANd9GcSy7T5fJNot0GI6qvTEBlh4Llav_n3agr0Bd1U24K_ziWg-M21a"/>
          <p:cNvPicPr/>
          <p:nvPr/>
        </p:nvPicPr>
        <p:blipFill>
          <a:blip r:embed="rId7"/>
          <a:stretch/>
        </p:blipFill>
        <p:spPr>
          <a:xfrm>
            <a:off x="7010280" y="1371600"/>
            <a:ext cx="1246320" cy="93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s://encrypted-tbn2.google.com/images?q=tbn:ANd9GcTEwCc-LuZeyg_VT9NRJIHcqcQki9yfOHvuUf0OHjiBQ8uGL7W7"/>
          <p:cNvPicPr/>
          <p:nvPr/>
        </p:nvPicPr>
        <p:blipFill>
          <a:blip r:embed="rId8"/>
          <a:stretch/>
        </p:blipFill>
        <p:spPr>
          <a:xfrm>
            <a:off x="2362320" y="4648320"/>
            <a:ext cx="1535040" cy="12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https://encrypted-tbn2.google.com/images?q=tbn:ANd9GcTEwCc-LuZeyg_VT9NRJIHcqcQki9yfOHvuUf0OHjiBQ8uGL7W7"/>
          <p:cNvPicPr/>
          <p:nvPr/>
        </p:nvPicPr>
        <p:blipFill>
          <a:blip r:embed="rId9"/>
          <a:stretch/>
        </p:blipFill>
        <p:spPr>
          <a:xfrm>
            <a:off x="5638680" y="5105520"/>
            <a:ext cx="1371600" cy="109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https://encrypted-tbn0.google.com/images?q=tbn:ANd9GcRZFrw5FO9H8DoML_0Qh3glB8JWFm-ympzcqejjanO84NEdPvSi4g"/>
          <p:cNvPicPr/>
          <p:nvPr/>
        </p:nvPicPr>
        <p:blipFill>
          <a:blip r:embed="rId10"/>
          <a:stretch/>
        </p:blipFill>
        <p:spPr>
          <a:xfrm>
            <a:off x="7416720" y="4648320"/>
            <a:ext cx="172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Juliet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encrypted-tbn2.google.com/images?q=tbn:ANd9GcTdx-Mltq_hjBrw9ZZh1rRgoMg65dW1Hk1d_8-38lAMPUq2DZRn"/>
          <p:cNvPicPr/>
          <p:nvPr/>
        </p:nvPicPr>
        <p:blipFill>
          <a:blip r:embed="rId1"/>
          <a:stretch/>
        </p:blipFill>
        <p:spPr>
          <a:xfrm>
            <a:off x="304920" y="2362320"/>
            <a:ext cx="1523880" cy="1141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s://encrypted-tbn2.google.com/images?q=tbn:ANd9GcTdx-Mltq_hjBrw9ZZh1rRgoMg65dW1Hk1d_8-38lAMPUq2DZRn"/>
          <p:cNvPicPr/>
          <p:nvPr/>
        </p:nvPicPr>
        <p:blipFill>
          <a:blip r:embed="rId2"/>
          <a:stretch/>
        </p:blipFill>
        <p:spPr>
          <a:xfrm>
            <a:off x="4800600" y="2362320"/>
            <a:ext cx="1523880" cy="114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encrypted-tbn0.google.com/images?q=tbn:ANd9GcTdTCbC8jb4DfTF2VXQGHIa3SGpMCvegxPOQrtArFTiu9ZixZNC"/>
          <p:cNvPicPr/>
          <p:nvPr/>
        </p:nvPicPr>
        <p:blipFill>
          <a:blip r:embed="rId3"/>
          <a:stretch/>
        </p:blipFill>
        <p:spPr>
          <a:xfrm>
            <a:off x="1828800" y="2438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s://encrypted-tbn0.google.com/images?q=tbn:ANd9GcTdTCbC8jb4DfTF2VXQGHIa3SGpMCvegxPOQrtArFTiu9ZixZNC"/>
          <p:cNvPicPr/>
          <p:nvPr/>
        </p:nvPicPr>
        <p:blipFill>
          <a:blip r:embed="rId4"/>
          <a:stretch/>
        </p:blipFill>
        <p:spPr>
          <a:xfrm>
            <a:off x="6324480" y="236232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s://encrypted-tbn2.google.com/images?q=tbn:ANd9GcTEwCc-LuZeyg_VT9NRJIHcqcQki9yfOHvuUf0OHjiBQ8uGL7W7"/>
          <p:cNvPicPr/>
          <p:nvPr/>
        </p:nvPicPr>
        <p:blipFill>
          <a:blip r:embed="rId5"/>
          <a:stretch/>
        </p:blipFill>
        <p:spPr>
          <a:xfrm>
            <a:off x="304920" y="3505320"/>
            <a:ext cx="1535040" cy="12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s://encrypted-tbn0.google.com/images?q=tbn:ANd9GcTp49YQKVSef3N87oD06hS7QGCUSbRrT6gVb9MpMeXZNiEmcujc"/>
          <p:cNvPicPr/>
          <p:nvPr/>
        </p:nvPicPr>
        <p:blipFill>
          <a:blip r:embed="rId6"/>
          <a:stretch/>
        </p:blipFill>
        <p:spPr>
          <a:xfrm>
            <a:off x="5334120" y="3505320"/>
            <a:ext cx="167616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s://encrypted-tbn1.google.com/images?q=tbn:ANd9GcQNGF6gf1kNkwGW9PUuKsOLV5RH1xRzr-FuGI8jpkeSUJA0OP89"/>
          <p:cNvPicPr/>
          <p:nvPr/>
        </p:nvPicPr>
        <p:blipFill>
          <a:blip r:embed="rId7"/>
          <a:stretch/>
        </p:blipFill>
        <p:spPr>
          <a:xfrm>
            <a:off x="380880" y="5334120"/>
            <a:ext cx="15940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s://encrypted-tbn1.google.com/images?q=tbn:ANd9GcQNGF6gf1kNkwGW9PUuKsOLV5RH1xRzr-FuGI8jpkeSUJA0OP89"/>
          <p:cNvPicPr/>
          <p:nvPr/>
        </p:nvPicPr>
        <p:blipFill>
          <a:blip r:embed="rId8"/>
          <a:stretch/>
        </p:blipFill>
        <p:spPr>
          <a:xfrm>
            <a:off x="5029200" y="5257800"/>
            <a:ext cx="159372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s://encrypted-tbn2.google.com/images?q=tbn:ANd9GcRM7L8e67ond2DIQYvX_T9yz-TlejQKleMeOKdQcSeirgR6wZmE"/>
          <p:cNvPicPr/>
          <p:nvPr/>
        </p:nvPicPr>
        <p:blipFill>
          <a:blip r:embed="rId9"/>
          <a:stretch/>
        </p:blipFill>
        <p:spPr>
          <a:xfrm>
            <a:off x="2133720" y="4648320"/>
            <a:ext cx="1218960" cy="1831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s://encrypted-tbn0.google.com/images?q=tbn:ANd9GcRNYEMcdagtdgY6DA-DPcfGFVTzQW4x87qt59WjtLpE1kRai7Bd"/>
          <p:cNvPicPr/>
          <p:nvPr/>
        </p:nvPicPr>
        <p:blipFill>
          <a:blip r:embed="rId10"/>
          <a:stretch/>
        </p:blipFill>
        <p:spPr>
          <a:xfrm>
            <a:off x="6934320" y="4876920"/>
            <a:ext cx="1778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0:10:59Z</dcterms:created>
  <dc:creator>Robbie</dc:creator>
  <dc:description/>
  <dc:language>en-US</dc:language>
  <cp:lastModifiedBy>Robbie</cp:lastModifiedBy>
  <dcterms:modified xsi:type="dcterms:W3CDTF">2012-09-19T03:20:18Z</dcterms:modified>
  <cp:revision>1</cp:revision>
  <dc:subject/>
  <dc:title>Slide 1</dc:title>
</cp:coreProperties>
</file>